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ABB-151A-4F0C-896C-3289D500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BC1-B166-411D-8180-99D04730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36D-D1B8-4A87-A8E0-563D984B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1EA-418B-4900-BBCC-A438832C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4F5-94D6-459C-83A2-E9D1682C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1A5-B27D-40FF-B020-12F99822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545-F1A5-4715-B644-CA31CA69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00E-DD5B-4A52-92DE-9F4FF2B4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103-F983-49F5-9904-34B437D5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74F-B836-436B-82C2-3691121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ECE7-F2E1-4049-88DA-ABEFA694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CCD-6222-4F57-940B-8A5B80BC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DA82-D1A4-4483-BD47-D9E1D253F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hat can you learn from these screen names?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ensburyskiier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byninfan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byjess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cerbo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mshockey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sonamy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5:44:54Z</dcterms:created>
  <dc:creator>cclancy</dc:creator>
  <dc:description/>
  <dc:language>en-US</dc:language>
  <cp:lastModifiedBy>cclancy</cp:lastModifiedBy>
  <dcterms:modified xsi:type="dcterms:W3CDTF">2008-10-24T15:45:28Z</dcterms:modified>
  <cp:revision>2</cp:revision>
  <dc:subject/>
  <dc:title>What can you learn from these screen names?  </dc:title>
</cp:coreProperties>
</file>